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22264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4952880"/>
            <a:ext cx="10464840" cy="1244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t">
            <a:normAutofit fontScale="26000"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1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2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3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4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5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6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68040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111168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542960" indent="-42192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97388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240516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2405160" indent="-421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2405160" indent="-421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523880" y="2730240"/>
            <a:ext cx="50421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55404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905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256760" indent="-34380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607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195876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026560" y="2730240"/>
            <a:ext cx="39621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7700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77940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081440" indent="-29592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38384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168588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1685880" indent="-295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1685880" indent="-295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66708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1" marL="107640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2" marL="1485360" indent="-42228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3" marL="189396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4" marL="230292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5" marL="2302920" indent="-421920">
              <a:spcBef>
                <a:spcPts val="3399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6" marL="2302920" indent="-421920">
              <a:spcBef>
                <a:spcPts val="3399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6527520"/>
            <a:ext cx="10464840" cy="2222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5235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66708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1" marL="107640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2" marL="1485360" indent="-42228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3" marL="189396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4" marL="230292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5" marL="2302920" indent="-421920">
              <a:spcBef>
                <a:spcPts val="5000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6" marL="2302920" indent="-421920">
              <a:spcBef>
                <a:spcPts val="5000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t">
            <a:normAutofit fontScale="80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1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2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3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4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5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6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523880" y="2730240"/>
            <a:ext cx="50421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55404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905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256760" indent="-34380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607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195876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2819520"/>
            <a:ext cx="10922040" cy="4101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Topics you wanted to discus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Maximizing the use of one compu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Using technology with lesson plann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Using technology for student resear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Critiquing websit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Finding educationally appropriate websites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625760" y="2222280"/>
            <a:ext cx="1046448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 algn="ctr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Your Chance to Explore WebQuest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-304920">
              <a:lnSpc>
                <a:spcPct val="100000"/>
              </a:lnSpc>
              <a:spcBef>
                <a:spcPts val="3399"/>
              </a:spcBef>
              <a:buClr>
                <a:srgbClr val="094dc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reak into groups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-304920">
              <a:lnSpc>
                <a:spcPct val="100000"/>
              </a:lnSpc>
              <a:spcBef>
                <a:spcPts val="3399"/>
              </a:spcBef>
              <a:buClr>
                <a:srgbClr val="094dc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o to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webquest.sdsu.edu/materials.htm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-304920">
              <a:lnSpc>
                <a:spcPct val="100000"/>
              </a:lnSpc>
              <a:spcBef>
                <a:spcPts val="339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Under “</a:t>
            </a:r>
            <a:r>
              <a:rPr b="0" lang="en-US" sz="3600" spc="-1" strike="noStrike">
                <a:solidFill>
                  <a:srgbClr val="149c04"/>
                </a:solidFill>
                <a:latin typeface="Comic Sans MS Bold"/>
                <a:ea typeface="Comic Sans MS Bold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149c04"/>
                </a:solidFill>
                <a:latin typeface="Comic Sans MS Bold"/>
                <a:ea typeface="Comic Sans MS Bold"/>
              </a:rPr>
              <a:t>WebQuest</a:t>
            </a: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149c04"/>
                </a:solidFill>
                <a:latin typeface="Comic Sans MS Bold"/>
                <a:ea typeface="Comic Sans MS Bold"/>
              </a:rPr>
              <a:t>about</a:t>
            </a: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149c04"/>
                </a:solidFill>
                <a:latin typeface="Comic Sans MS Bold"/>
                <a:ea typeface="Comic Sans MS Bold"/>
              </a:rPr>
              <a:t>WebQuest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-304920">
              <a:lnSpc>
                <a:spcPct val="100000"/>
              </a:lnSpc>
              <a:spcBef>
                <a:spcPts val="339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” select an age group.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-304920">
              <a:lnSpc>
                <a:spcPct val="100000"/>
              </a:lnSpc>
              <a:spcBef>
                <a:spcPts val="339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ait for my direction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1523520" y="2438280"/>
            <a:ext cx="10464840" cy="486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94dc0"/>
                </a:solidFill>
                <a:latin typeface="Arial Bold"/>
                <a:ea typeface="Arial Bold"/>
              </a:rPr>
              <a:t>Let’s Share Our Impressions</a:t>
            </a:r>
            <a:endParaRPr b="0" lang="en-US" sz="43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 Bold"/>
                <a:ea typeface="Arial Bold"/>
              </a:rPr>
              <a:t>Let’s Share Our Impressions</a:t>
            </a:r>
            <a:endParaRPr b="0" lang="en-US" sz="43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Good, Bad, &amp; Ugly??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876240" y="635040"/>
            <a:ext cx="11544480" cy="843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One Big Issue . . . Reading Level of Text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Ifstudents cannot read the text in the WebQuest here are some options: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– Use aTextReader • WordQ: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wordq.com/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Text Aloud: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nextup.com/TextAloud/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Read Please: </a:t>
            </a: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free</a:t>
            </a:r>
            <a:r>
              <a:rPr b="0" lang="en-US" sz="3600" spc="-1" strike="noStrike">
                <a:solidFill>
                  <a:srgbClr val="ffffff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software</a:t>
            </a:r>
            <a:r>
              <a:rPr b="0" lang="en-US" sz="3600" spc="-1" strike="noStrike">
                <a:solidFill>
                  <a:srgbClr val="ffffff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www.readplease.com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– Read text into a tape recorder • Have parents volunteer to do thi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– If using half PowerPoint template, record text using built-in recorder.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Insert &gt; Movies &amp; Sounds &gt; Record Sound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1269720" y="185400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 algn="ctr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 Bold"/>
                <a:ea typeface="Arial Bold"/>
              </a:rPr>
              <a:t>Where do I start??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 algn="ctr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old"/>
                <a:ea typeface="Arial Bold"/>
              </a:rPr>
              <a:t>Where do I start??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 algn="ctr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Making vs. Using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523520" y="1028880"/>
            <a:ext cx="104648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1st option: Don’t Reinvent the Whe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Matri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fWebQuestexample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WebQuestsfroma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schooldistrict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DinosaurWebQues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–uses computer but utilizes other activitie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WebQuests from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TechnologyChallengeGrants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Kindergarten through 3rd Grade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WebQuests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GradesK–2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WebQuest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269720" y="-360"/>
            <a:ext cx="10464840" cy="779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2nd Option: I can’t make a webpage and a premade one won’t work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Visit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Filamentality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or a cookie cutter version to get you started. You fill in the blanks and it generates the WebQuest.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– It’s that simple! 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Try a WebQuest 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Or use a template in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PowerPoin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 make a WebQuest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523520" y="304920"/>
            <a:ext cx="10464840" cy="801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277200" indent="-277200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3rd Option: Build/Alter it Yourself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7720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Have an outline ready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7720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SampleWebQuestDevelopmen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Prewriting Your WebQues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Another WebQuest guru,Spartanburg's,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Template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7720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Download a Starter Template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7720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Checkout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templat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rom the originator at SDSU - Orusea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DesignPattern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7720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Alter It!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7720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ound a good one, but need to make a few changes, try this site about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adapting existing WebQuest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269720" y="279000"/>
            <a:ext cx="10464840" cy="883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271080" indent="-271080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94dc0"/>
                </a:solidFill>
                <a:latin typeface="Arial"/>
                <a:ea typeface="Arial"/>
              </a:rPr>
              <a:t>Whether you choose Option 1, 2 or 3 just follow the steps below . . .</a:t>
            </a:r>
            <a:endParaRPr b="0" lang="en-US" sz="34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.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cide on the </a:t>
            </a:r>
            <a:r>
              <a:rPr b="0" lang="en-US" sz="3400" spc="-1" strike="noStrike">
                <a:solidFill>
                  <a:srgbClr val="f3c60c"/>
                </a:solidFill>
                <a:latin typeface="Comic Sans MS"/>
                <a:ea typeface="Comic Sans MS"/>
              </a:rPr>
              <a:t>Topic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•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34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The Idea Machine</a:t>
            </a:r>
            <a:endParaRPr b="0" lang="en-US" sz="34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.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ick the </a:t>
            </a:r>
            <a:r>
              <a:rPr b="0" lang="en-US" sz="3400" spc="-1" strike="noStrike">
                <a:solidFill>
                  <a:srgbClr val="f3c60c"/>
                </a:solidFill>
                <a:latin typeface="Comic Sans MS"/>
                <a:ea typeface="Comic Sans MS"/>
              </a:rPr>
              <a:t>Task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•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ry a </a:t>
            </a:r>
            <a:r>
              <a:rPr b="0" lang="en-US" sz="34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Taxonomy of Tasks</a:t>
            </a:r>
            <a:endParaRPr b="0" lang="en-US" sz="34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3.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ormulate the </a:t>
            </a:r>
            <a:r>
              <a:rPr b="0" lang="en-US" sz="3400" spc="-1" strike="noStrike">
                <a:solidFill>
                  <a:srgbClr val="f3c60c"/>
                </a:solidFill>
                <a:latin typeface="Comic Sans MS"/>
                <a:ea typeface="Comic Sans MS"/>
              </a:rPr>
              <a:t>Process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•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ry </a:t>
            </a:r>
            <a:r>
              <a:rPr b="0" lang="en-US" sz="34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Process Guides</a:t>
            </a:r>
            <a:endParaRPr b="0" lang="en-US" sz="34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4.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esearch Meaningful </a:t>
            </a:r>
            <a:r>
              <a:rPr b="0" lang="en-US" sz="3400" spc="-1" strike="noStrike">
                <a:solidFill>
                  <a:srgbClr val="f3c60c"/>
                </a:solidFill>
                <a:latin typeface="Comic Sans MS"/>
                <a:ea typeface="Comic Sans MS"/>
              </a:rPr>
              <a:t>Resources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•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34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Searching with Savvy</a:t>
            </a:r>
            <a:endParaRPr b="0" lang="en-US" sz="34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.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cide upon the </a:t>
            </a:r>
            <a:r>
              <a:rPr b="0" lang="en-US" sz="3400" spc="-1" strike="noStrike">
                <a:solidFill>
                  <a:srgbClr val="f3c60c"/>
                </a:solidFill>
                <a:latin typeface="Comic Sans MS"/>
                <a:ea typeface="Comic Sans MS"/>
              </a:rPr>
              <a:t>Evaluation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•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raditional assessment techniques not the best •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ry Individual Evaluation Rubrics</a:t>
            </a:r>
            <a:endParaRPr b="0" lang="en-US" sz="34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• • •</a:t>
            </a:r>
            <a:endParaRPr b="0" lang="en-US" sz="34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Rubrics for Web Lessons WebQuest Evaluation Form WebQuest Rubric Maker</a:t>
            </a:r>
            <a:endParaRPr b="0" lang="en-US" sz="3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409400" y="185400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 algn="ctr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Let’s Implement One in Your Classroom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0" algn="ctr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ploration Time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5120" y="406080"/>
            <a:ext cx="11658600" cy="877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271080" indent="-271080" algn="ctr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94dc0"/>
                </a:solidFill>
                <a:latin typeface="Arial"/>
                <a:ea typeface="Arial"/>
              </a:rPr>
              <a:t>Presentation Resources</a:t>
            </a:r>
            <a:endParaRPr b="0" lang="en-US" sz="41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About WebQuests</a:t>
            </a:r>
            <a:endParaRPr b="0" lang="en-US" sz="23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Main SDSU Page: </a:t>
            </a:r>
            <a:r>
              <a:rPr b="0" lang="en-US" sz="1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ebquest.sdsu.edu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6 Components: </a:t>
            </a:r>
            <a:r>
              <a:rPr b="0" lang="en-US" sz="1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projects.edtech.sandi.net/staffdev/buildingblocks/p-index.ht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Reading &amp; Training Material</a:t>
            </a:r>
            <a:r>
              <a:rPr b="0" lang="en-US" sz="18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: </a:t>
            </a:r>
            <a:r>
              <a:rPr b="0" lang="en-US" sz="1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ebquest.sdsu.edu/materials.htm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Outlines</a:t>
            </a:r>
            <a:endParaRPr b="0" lang="en-US" sz="23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Spartanburg's Template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spa3.k12.sc.us/WebQuestTemplate/webquesttemp.ht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Prewriting Your WebQuest - </a:t>
            </a:r>
            <a:r>
              <a:rPr b="0" lang="en-US" sz="1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ozline.com/webquests/prewrite.html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Templates</a:t>
            </a:r>
            <a:endParaRPr b="0" lang="en-US" sz="23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Filamentality - </a:t>
            </a:r>
            <a:r>
              <a:rPr b="0" lang="en-US" sz="1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kn.pacbell.com/wired/fi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SDSU Templates - </a:t>
            </a:r>
            <a:r>
              <a:rPr b="0" lang="en-US" sz="1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webquest.sdsu.edu/LessonTemplate.htm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Design Patterns - </a:t>
            </a:r>
            <a:r>
              <a:rPr b="0" lang="en-US" sz="1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ebquest.sdsu.edu/designpatterns/all.ht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Creating WebQuest Content</a:t>
            </a:r>
            <a:endParaRPr b="0" lang="en-US" sz="23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The Idea Machine - </a:t>
            </a:r>
            <a:r>
              <a:rPr b="0" lang="en-US" sz="1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ozline.com/learning/machine.htm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WebQuest Taxonomy: A Taxonomy of Tasks -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marL="27108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ebquest.sdsu.edu/taskonomy.htm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Designing for Success - </a:t>
            </a:r>
            <a:r>
              <a:rPr b="0" lang="en-US" sz="1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ozline.com/webquests/checklist.htm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Searching with Savvy - </a:t>
            </a:r>
            <a:r>
              <a:rPr b="0" lang="en-US" sz="1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educationworld.com/a_tech/tech001.shtm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Adapting and Enhancing Existing WebQuests: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Comic Sans MS"/>
                <a:ea typeface="Comic Sans MS"/>
              </a:rPr>
              <a:t>http://webquest.sdsu.edu/adapting/index.html</a:t>
            </a:r>
            <a:endParaRPr b="0" lang="en-US" sz="17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828800" y="1600200"/>
            <a:ext cx="8928000" cy="68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So What is a WebQuest?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414141"/>
              </a:buClr>
              <a:buSzPct val="125000"/>
              <a:buFont typeface="Wingdings" charset="2"/>
              <a:buChar char="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d2d"/>
                </a:solidFill>
                <a:latin typeface="Lucida Grande"/>
                <a:ea typeface="Lucida Grande"/>
              </a:rPr>
              <a:t>␣</a:t>
            </a:r>
            <a:r>
              <a:rPr b="0" lang="en-US" sz="3600" spc="-1" strike="noStrike">
                <a:solidFill>
                  <a:srgbClr val="5b4d2d"/>
                </a:solidFill>
                <a:latin typeface="Wingdings"/>
                <a:ea typeface="Wingdings"/>
              </a:rPr>
              <a:t></a:t>
            </a:r>
            <a:r>
              <a:rPr b="0" lang="en-US" sz="3600" spc="-1" strike="noStrike">
                <a:solidFill>
                  <a:srgbClr val="5b4d2d"/>
                </a:solidFill>
                <a:latin typeface="Comic Sans MS"/>
                <a:ea typeface="Comic Sans MS"/>
              </a:rPr>
              <a:t>An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inquiry-oriented activity </a:t>
            </a:r>
            <a:r>
              <a:rPr b="0" lang="en-US" sz="3600" spc="-1" strike="noStrike">
                <a:solidFill>
                  <a:srgbClr val="5b4d2d"/>
                </a:solidFill>
                <a:latin typeface="Comic Sans MS"/>
                <a:ea typeface="Comic Sans MS"/>
              </a:rPr>
              <a:t>in which inquiry-oriented activity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414141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d2d"/>
                </a:solidFill>
                <a:latin typeface="Comic Sans MS"/>
                <a:ea typeface="Comic Sans MS"/>
              </a:rPr>
              <a:t>some or all of the information that learners interact with comes from resources on the Internet.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414141"/>
              </a:buClr>
              <a:buSzPct val="125000"/>
              <a:buFont typeface="Wingdings" charset="2"/>
              <a:buChar char="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d2d"/>
                </a:solidFill>
                <a:latin typeface="Lucida Grande"/>
                <a:ea typeface="Lucida Grande"/>
              </a:rPr>
              <a:t>␣</a:t>
            </a:r>
            <a:r>
              <a:rPr b="0" lang="en-US" sz="3600" spc="-1" strike="noStrike">
                <a:solidFill>
                  <a:srgbClr val="5b4d2d"/>
                </a:solidFill>
                <a:latin typeface="Wingdings"/>
                <a:ea typeface="Wingdings"/>
              </a:rPr>
              <a:t></a:t>
            </a:r>
            <a:r>
              <a:rPr b="0" lang="en-US" sz="3600" spc="-1" strike="noStrike">
                <a:solidFill>
                  <a:srgbClr val="5b4d2d"/>
                </a:solidFill>
                <a:latin typeface="Comic Sans MS"/>
                <a:ea typeface="Comic Sans MS"/>
              </a:rPr>
              <a:t>A specific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electronic lesson design </a:t>
            </a:r>
            <a:r>
              <a:rPr b="0" lang="en-US" sz="3600" spc="-1" strike="noStrike">
                <a:solidFill>
                  <a:srgbClr val="5b4d2d"/>
                </a:solidFill>
                <a:latin typeface="Comic Sans MS"/>
                <a:ea typeface="Comic Sans MS"/>
              </a:rPr>
              <a:t>electronic lesson design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414141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d2d"/>
                </a:solidFill>
                <a:latin typeface="Comic Sans MS"/>
                <a:ea typeface="Comic Sans MS"/>
              </a:rPr>
              <a:t>created by Bernie Dodge of San Diego State University in 1995.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49160" y="444240"/>
            <a:ext cx="11900160" cy="887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225360" indent="-225360" algn="ctr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4dc0"/>
                </a:solidFill>
                <a:latin typeface="Arial"/>
                <a:ea typeface="Arial"/>
              </a:rPr>
              <a:t>Presentation Resources </a:t>
            </a:r>
            <a:r>
              <a:rPr b="0" lang="en-US" sz="3200" spc="-1" strike="noStrike">
                <a:solidFill>
                  <a:srgbClr val="094dc0"/>
                </a:solidFill>
                <a:latin typeface="Arial"/>
                <a:ea typeface="Arial"/>
              </a:rPr>
              <a:t>(cont.)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WebQuest Assessment</a:t>
            </a:r>
            <a:endParaRPr b="0" lang="en-US" sz="22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Rubric for Evaluating WebQuests - </a:t>
            </a:r>
            <a:r>
              <a:rPr b="0" lang="en-US" sz="17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ebquest.sdsu.edu/webquestrubric.html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WebQuest Evaluation Form - </a:t>
            </a:r>
            <a:r>
              <a:rPr b="0" lang="en-US" sz="17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spa3.k12.sc.us/webquestrubric.htm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WebQuest Rubric Maker: </a:t>
            </a:r>
            <a:r>
              <a:rPr b="0" lang="en-US" sz="17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teach-nology.com/web_tools/rubrics/webquest/</a:t>
            </a:r>
            <a:endParaRPr b="0" lang="en-US" sz="17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Literature About WebQuests</a:t>
            </a:r>
            <a:endParaRPr b="0" lang="en-US" sz="22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Creating a WebQuest is Easier than You Think:</a:t>
            </a:r>
            <a:endParaRPr b="0" lang="en-US" sz="17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educationworld.com/a_tech/tech/tech011.shtml</a:t>
            </a:r>
            <a:endParaRPr b="0" lang="en-US" sz="17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* Concept to Classroom: Exploration of WebQuests:* </a:t>
            </a:r>
            <a:r>
              <a:rPr b="0" lang="en-US" sz="17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VERY Informative </a:t>
            </a:r>
            <a:r>
              <a:rPr b="0" lang="en-US" sz="17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thirteen.org/edonline/concept2class/webquests/index.html</a:t>
            </a:r>
            <a:endParaRPr b="0" lang="en-US" sz="17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Kathy Schrocks’s page on WebQuests</a:t>
            </a:r>
            <a:endParaRPr b="0" lang="en-US" sz="17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school.discovery.com/schrockguide/webquest/webquest.html</a:t>
            </a:r>
            <a:endParaRPr b="0" lang="en-US" sz="17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WebQuest Examples</a:t>
            </a:r>
            <a:endParaRPr b="0" lang="en-US" sz="22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Planet WebQuest: </a:t>
            </a:r>
            <a:r>
              <a:rPr b="0" lang="en-US" sz="17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schools.sbe.saskatoon.sk.ca/Victo/projects/Grassroots/Planet WebQuest/WebQuest2.html</a:t>
            </a:r>
            <a:endParaRPr b="0" lang="en-US" sz="17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Introduction Example: </a:t>
            </a:r>
            <a:r>
              <a:rPr b="0" lang="en-US" sz="17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kn.pacbell.com/wired/bww/index.html</a:t>
            </a:r>
            <a:endParaRPr b="0" lang="en-US" sz="17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Task Example: </a:t>
            </a:r>
            <a:r>
              <a:rPr b="0" lang="en-US" sz="17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projects.edtech.sandi.net/grant/insects/task.htm</a:t>
            </a:r>
            <a:endParaRPr b="0" lang="en-US" sz="17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Process Example: </a:t>
            </a:r>
            <a:r>
              <a:rPr b="0" lang="en-US" sz="17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projects.edtech.sandi.net/sessions/westwardho/process.htm</a:t>
            </a:r>
            <a:endParaRPr b="0" lang="en-US" sz="17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Evaluation Example:</a:t>
            </a:r>
            <a:endParaRPr b="0" lang="en-US" sz="1700" spc="-1" strike="noStrike">
              <a:solidFill>
                <a:srgbClr val="806216"/>
              </a:solidFill>
              <a:latin typeface="Palatino"/>
            </a:endParaRPr>
          </a:p>
          <a:p>
            <a:pPr marL="2253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projects.edtech.sandi.net/grant/oceanpollution/evaluation.html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Conclusion Example: </a:t>
            </a:r>
            <a:r>
              <a:rPr b="0" lang="en-US" sz="17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projects.edtech.sandi.net/hawthorne/farm/conclusion.htm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- Teacher Page: </a:t>
            </a:r>
            <a:r>
              <a:rPr b="0" lang="en-US" sz="17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projects.edtech.sandi.net/sessions/westwardho/t-learners.htm</a:t>
            </a:r>
            <a:endParaRPr b="0" lang="en-US" sz="17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914040" y="419040"/>
            <a:ext cx="11455560" cy="876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76160" indent="-458640" algn="ctr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2"/>
              </a:buBlip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94dc0"/>
                </a:solidFill>
                <a:latin typeface="Arial"/>
                <a:ea typeface="Arial"/>
              </a:rPr>
              <a:t>Ready to Use WebQuests</a:t>
            </a:r>
            <a:endParaRPr b="0" lang="en-US" sz="3900" spc="-1" strike="noStrike">
              <a:solidFill>
                <a:srgbClr val="806216"/>
              </a:solidFill>
              <a:latin typeface="Palatino"/>
            </a:endParaRPr>
          </a:p>
          <a:p>
            <a:pPr marL="7761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Technology Challenge Grants: </a:t>
            </a:r>
            <a:r>
              <a:rPr b="0" lang="en-US" sz="19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projects.edtech.sandi.net/projects/index.html</a:t>
            </a:r>
            <a:endParaRPr b="0" lang="en-US" sz="1900" spc="-1" strike="noStrike">
              <a:solidFill>
                <a:srgbClr val="806216"/>
              </a:solidFill>
              <a:latin typeface="Palatino"/>
            </a:endParaRPr>
          </a:p>
          <a:p>
            <a:pPr marL="7761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Various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</a:t>
            </a:r>
            <a:r>
              <a:rPr b="0" lang="en-US" sz="19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spa3.k12.sc.us/WebQuests.html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Grades K – 3: </a:t>
            </a:r>
            <a:r>
              <a:rPr b="0" lang="en-US" sz="19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eduscapes.com/sessions/travel/k3webquests.htm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Grades K – 2: </a:t>
            </a:r>
            <a:r>
              <a:rPr b="0" lang="en-US" sz="19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literacy.uconn.edu/k2webqu.htm</a:t>
            </a:r>
            <a:endParaRPr b="0" lang="en-US" sz="1900" spc="-1" strike="noStrike">
              <a:solidFill>
                <a:srgbClr val="806216"/>
              </a:solidFill>
              <a:latin typeface="Palatino"/>
            </a:endParaRPr>
          </a:p>
          <a:p>
            <a:pPr marL="7761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ヒラギノ明朝 ProN W3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Space 3</a:t>
            </a:r>
            <a:r>
              <a:rPr b="0" lang="en-US" sz="13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rd </a:t>
            </a:r>
            <a:r>
              <a:rPr b="0" lang="en-US" sz="19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Grade: </a:t>
            </a:r>
            <a:r>
              <a:rPr b="0" lang="en-US" sz="19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schools.sbe.saskatoon.sk.ca/Victo/projects/Grassroots/Planet%20W ebQuest/WebQuest2.html</a:t>
            </a:r>
            <a:endParaRPr b="0" lang="en-US" sz="1900" spc="-1" strike="noStrike">
              <a:solidFill>
                <a:srgbClr val="806216"/>
              </a:solidFill>
              <a:latin typeface="Palatino"/>
            </a:endParaRPr>
          </a:p>
          <a:p>
            <a:pPr marL="7761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</a:t>
            </a:r>
            <a:r>
              <a:rPr b="0" lang="en-US" sz="19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Winn-Dixie: </a:t>
            </a:r>
            <a:r>
              <a:rPr b="0" lang="en-US" sz="19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www.readingonline.org/electronic/elec_index.asp?HREF=/electronic/ boswell</a:t>
            </a:r>
            <a:endParaRPr b="0" lang="en-US" sz="1900" spc="-1" strike="noStrike">
              <a:solidFill>
                <a:srgbClr val="806216"/>
              </a:solidFill>
              <a:latin typeface="Palatino"/>
            </a:endParaRPr>
          </a:p>
          <a:p>
            <a:pPr marL="7761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• </a:t>
            </a:r>
            <a:r>
              <a:rPr b="0" lang="en-US" sz="19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Dinosaurs: </a:t>
            </a:r>
            <a:r>
              <a:rPr b="0" lang="en-US" sz="19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http://mywebpages.comcast.net/saponaro/dino/dinowebquest.html</a:t>
            </a:r>
            <a:endParaRPr b="0" lang="en-US" sz="19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371600" y="1746360"/>
            <a:ext cx="10769760" cy="62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Key Features: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414141"/>
              </a:buClr>
              <a:buSzPct val="125000"/>
              <a:buFont typeface="Wingdings" charset="2"/>
              <a:buChar char="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d2d"/>
                </a:solidFill>
                <a:latin typeface="Lucida Grande"/>
                <a:ea typeface="Lucida Grande"/>
              </a:rPr>
              <a:t>␣</a:t>
            </a:r>
            <a:r>
              <a:rPr b="0" lang="en-US" sz="3600" spc="-1" strike="noStrike">
                <a:solidFill>
                  <a:srgbClr val="5b4d2d"/>
                </a:solidFill>
                <a:latin typeface="Wingdings"/>
                <a:ea typeface="Wingdings"/>
              </a:rPr>
              <a:t></a:t>
            </a:r>
            <a:r>
              <a:rPr b="0" lang="en-US" sz="3600" spc="-1" strike="noStrike">
                <a:solidFill>
                  <a:srgbClr val="5b4d2d"/>
                </a:solidFill>
                <a:latin typeface="Comic Sans MS"/>
                <a:ea typeface="Comic Sans MS"/>
              </a:rPr>
              <a:t>An internet-based activity that is based around an engaging and doable task.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414141"/>
              </a:buClr>
              <a:buSzPct val="125000"/>
              <a:buFont typeface="Wingdings" charset="2"/>
              <a:buChar char="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d2d"/>
                </a:solidFill>
                <a:latin typeface="Lucida Grande"/>
                <a:ea typeface="Lucida Grande"/>
              </a:rPr>
              <a:t>␣</a:t>
            </a:r>
            <a:r>
              <a:rPr b="0" lang="en-US" sz="3600" spc="-1" strike="noStrike">
                <a:solidFill>
                  <a:srgbClr val="5b4d2d"/>
                </a:solidFill>
                <a:latin typeface="Wingdings"/>
                <a:ea typeface="Wingdings"/>
              </a:rPr>
              <a:t></a:t>
            </a:r>
            <a:r>
              <a:rPr b="0" lang="en-US" sz="3600" spc="-1" strike="noStrike">
                <a:solidFill>
                  <a:srgbClr val="5b4d2d"/>
                </a:solidFill>
                <a:latin typeface="Comic Sans MS"/>
                <a:ea typeface="Comic Sans MS"/>
              </a:rPr>
              <a:t>Emphasizes higher-order thinking skills by challenging students to solve a problem.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414141"/>
              </a:buClr>
              <a:buSzPct val="125000"/>
              <a:buFont typeface="Wingdings" charset="2"/>
              <a:buChar char="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d2d"/>
                </a:solidFill>
                <a:latin typeface="Lucida Grande"/>
                <a:ea typeface="Lucida Grande"/>
              </a:rPr>
              <a:t>␣</a:t>
            </a:r>
            <a:r>
              <a:rPr b="0" lang="en-US" sz="3600" spc="-1" strike="noStrike">
                <a:solidFill>
                  <a:srgbClr val="5b4d2d"/>
                </a:solidFill>
                <a:latin typeface="Wingdings"/>
                <a:ea typeface="Wingdings"/>
              </a:rPr>
              <a:t></a:t>
            </a:r>
            <a:r>
              <a:rPr b="0" lang="en-US" sz="3600" spc="-1" strike="noStrike">
                <a:solidFill>
                  <a:srgbClr val="5b4d2d"/>
                </a:solidFill>
                <a:latin typeface="Comic Sans MS"/>
                <a:ea typeface="Comic Sans MS"/>
              </a:rPr>
              <a:t>Allows students to work in groups while teachers facilitate their learning.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414141"/>
              </a:buClr>
              <a:buSzPct val="125000"/>
              <a:buFont typeface="Wingdings" charset="2"/>
              <a:buChar char="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d2d"/>
                </a:solidFill>
                <a:latin typeface="Lucida Grande"/>
                <a:ea typeface="Lucida Grande"/>
              </a:rPr>
              <a:t>␣</a:t>
            </a:r>
            <a:r>
              <a:rPr b="0" lang="en-US" sz="3600" spc="-1" strike="noStrike">
                <a:solidFill>
                  <a:srgbClr val="5b4d2d"/>
                </a:solidFill>
                <a:latin typeface="Wingdings"/>
                <a:ea typeface="Wingdings"/>
              </a:rPr>
              <a:t></a:t>
            </a:r>
            <a:r>
              <a:rPr b="0" lang="en-US" sz="3600" spc="-1" strike="noStrike">
                <a:solidFill>
                  <a:srgbClr val="5b4d2d"/>
                </a:solidFill>
                <a:latin typeface="Comic Sans MS"/>
                <a:ea typeface="Comic Sans MS"/>
              </a:rPr>
              <a:t>Scaffolding allows </a:t>
            </a:r>
            <a:r>
              <a:rPr b="0" lang="en-US" sz="3600" spc="-1" strike="noStrike">
                <a:solidFill>
                  <a:srgbClr val="f3c60c"/>
                </a:solidFill>
                <a:latin typeface="Comic Sans MS Bold"/>
                <a:ea typeface="Comic Sans MS Bold"/>
              </a:rPr>
              <a:t>ALL</a:t>
            </a:r>
            <a:r>
              <a:rPr b="0" lang="en-US" sz="3600" spc="-1" strike="noStrike">
                <a:solidFill>
                  <a:srgbClr val="5b4d2d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5b4d2d"/>
                </a:solidFill>
                <a:latin typeface="Comic Sans MS"/>
                <a:ea typeface="Comic Sans MS"/>
              </a:rPr>
              <a:t>to participate.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414141"/>
              </a:buClr>
              <a:buSzPct val="125000"/>
              <a:buFont typeface="Wingdings" charset="2"/>
              <a:buChar char="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d2d"/>
                </a:solidFill>
                <a:latin typeface="Lucida Grande"/>
                <a:ea typeface="Lucida Grande"/>
              </a:rPr>
              <a:t>␣</a:t>
            </a:r>
            <a:r>
              <a:rPr b="0" lang="en-US" sz="3600" spc="-1" strike="noStrike">
                <a:solidFill>
                  <a:srgbClr val="5b4d2d"/>
                </a:solidFill>
                <a:latin typeface="Wingdings"/>
                <a:ea typeface="Wingdings"/>
              </a:rPr>
              <a:t></a:t>
            </a:r>
            <a:r>
              <a:rPr b="0" lang="en-US" sz="3600" spc="-1" strike="noStrike">
                <a:solidFill>
                  <a:srgbClr val="5b4d2d"/>
                </a:solidFill>
                <a:latin typeface="Comic Sans MS"/>
                <a:ea typeface="Comic Sans MS"/>
              </a:rPr>
              <a:t>Answers are not predefined – they must be discovered &amp; created.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63640" y="2692440"/>
            <a:ext cx="11201400" cy="43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What it is NOT!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5b4d2d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An internet “scavenger hunt.”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5b4d2d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Only for the gifted kids.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5b4d2d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Simply answering questions and regurgitating what is on the screen.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5b4d2d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Only one answer to “solve” the WebQuest.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76240" y="2209680"/>
            <a:ext cx="1174752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How Do WebQuests Benefit Teachers?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See the center of gravity of your room move to the students – your classroom becomes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student-centered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.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If you set it up right, you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facilitate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learning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 instead of directing it.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Observe all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your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student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succee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since this type of teaching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supports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all</a:t>
            </a:r>
            <a:r>
              <a:rPr b="0" lang="en-US" sz="3600" spc="-1" strike="noStrike">
                <a:solidFill>
                  <a:srgbClr val="2f2b20"/>
                </a:solidFill>
                <a:latin typeface="Comic Sans MS"/>
                <a:ea typeface="Comic Sans MS"/>
              </a:rPr>
              <a:t> 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learners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1523520" y="2476440"/>
            <a:ext cx="10464840" cy="654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243720" indent="-243720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What Skills Do I Need to Create One?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43720" indent="-243720">
              <a:lnSpc>
                <a:spcPct val="100000"/>
              </a:lnSpc>
              <a:spcBef>
                <a:spcPts val="339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149c04"/>
                </a:solidFill>
                <a:latin typeface="Comic Sans MS Bold"/>
                <a:ea typeface="Comic Sans MS Bold"/>
              </a:rPr>
              <a:t>Some Technical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 use PowerPoint, create webpages or fill-in-the-blanks.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43720" indent="-243720">
              <a:lnSpc>
                <a:spcPct val="100000"/>
              </a:lnSpc>
              <a:spcBef>
                <a:spcPts val="339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 know where to find things on the web.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43720" indent="-243720">
              <a:lnSpc>
                <a:spcPct val="100000"/>
              </a:lnSpc>
              <a:spcBef>
                <a:spcPts val="339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149c04"/>
                </a:solidFill>
                <a:latin typeface="Comic Sans MS Bold"/>
                <a:ea typeface="Comic Sans MS Bold"/>
              </a:rPr>
              <a:t>Some Pedagogical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 craft an engaging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43720" indent="-243720">
              <a:lnSpc>
                <a:spcPct val="100000"/>
              </a:lnSpc>
              <a:spcBef>
                <a:spcPts val="339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ssignment.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43720" indent="-243720">
              <a:lnSpc>
                <a:spcPct val="100000"/>
              </a:lnSpc>
              <a:spcBef>
                <a:spcPts val="339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 find a task that forces thinking.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43720" indent="-243720">
              <a:lnSpc>
                <a:spcPct val="100000"/>
              </a:lnSpc>
              <a:spcBef>
                <a:spcPts val="339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 support cooperative learning strategies.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43720" indent="-243720">
              <a:lnSpc>
                <a:spcPct val="100000"/>
              </a:lnSpc>
              <a:spcBef>
                <a:spcPts val="3399"/>
              </a:spcBef>
              <a:buClr>
                <a:srgbClr val="094dc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To find value in the internet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523520" y="185400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 algn="ctr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The Design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04920" indent="-304920">
              <a:lnSpc>
                <a:spcPct val="100000"/>
              </a:lnSpc>
              <a:spcBef>
                <a:spcPts val="339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corporates the combination of </a:t>
            </a:r>
            <a:r>
              <a:rPr b="0" lang="en-US" sz="2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sequenc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0" lang="en-US" sz="2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step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and </a:t>
            </a:r>
            <a:r>
              <a:rPr b="0" lang="en-US" sz="2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preselected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0" lang="en-US" sz="2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link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0" lang="en-US" sz="2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We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0" lang="en-US" sz="2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sit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to guide students through the lesson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304920" indent="-304920">
              <a:lnSpc>
                <a:spcPct val="100000"/>
              </a:lnSpc>
              <a:spcBef>
                <a:spcPts val="3399"/>
              </a:spcBef>
              <a:buClr>
                <a:srgbClr val="094dc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cludes </a:t>
            </a:r>
            <a:r>
              <a:rPr b="0" lang="en-US" sz="2800" spc="-1" strike="noStrike">
                <a:solidFill>
                  <a:srgbClr val="094dc0"/>
                </a:solidFill>
                <a:latin typeface="Comic Sans MS"/>
                <a:ea typeface="Comic Sans MS"/>
              </a:rPr>
              <a:t>six compon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304920" indent="-304920">
              <a:lnSpc>
                <a:spcPct val="100000"/>
              </a:lnSpc>
              <a:spcBef>
                <a:spcPts val="339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troduc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ce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valu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clusion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304920" indent="-304920">
              <a:lnSpc>
                <a:spcPct val="100000"/>
              </a:lnSpc>
              <a:spcBef>
                <a:spcPts val="339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acher page (optional)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1523520" y="185400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274320" indent="-274320" algn="ctr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"/>
                <a:ea typeface="Arial"/>
              </a:rPr>
              <a:t>Component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743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. </a:t>
            </a:r>
            <a:r>
              <a:rPr b="0" lang="en-US" sz="3600" spc="-1" strike="noStrike">
                <a:solidFill>
                  <a:srgbClr val="094dc0"/>
                </a:solidFill>
                <a:latin typeface="Comic Sans MS Bold"/>
                <a:ea typeface="Comic Sans MS Bold"/>
              </a:rPr>
              <a:t>Introduction</a:t>
            </a: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rients students and captures their interest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743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94dc0"/>
                </a:solidFill>
                <a:latin typeface="Comic Sans MS Bold"/>
                <a:ea typeface="Comic Sans MS Bold"/>
              </a:rPr>
              <a:t>Task</a:t>
            </a: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escribes the end product of the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743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ctivity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743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3.</a:t>
            </a:r>
            <a:r>
              <a:rPr b="0" lang="en-US" sz="3600" spc="-1" strike="noStrike">
                <a:solidFill>
                  <a:srgbClr val="ffffff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94dc0"/>
                </a:solidFill>
                <a:latin typeface="Comic Sans MS Bold"/>
                <a:ea typeface="Comic Sans MS Bold"/>
              </a:rPr>
              <a:t>Process</a:t>
            </a: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plains strategies students will use to complete the task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7432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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cludes any resource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523520" y="1422360"/>
            <a:ext cx="10604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295560" indent="-295560" algn="ctr">
              <a:lnSpc>
                <a:spcPct val="100000"/>
              </a:lnSpc>
              <a:spcBef>
                <a:spcPts val="3399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4dc0"/>
                </a:solidFill>
                <a:latin typeface="Arial Bold"/>
                <a:ea typeface="Arial Bold"/>
              </a:rPr>
              <a:t>Components (cont.)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955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4.</a:t>
            </a:r>
            <a:r>
              <a:rPr b="0" lang="en-US" sz="3600" spc="-1" strike="noStrike">
                <a:solidFill>
                  <a:srgbClr val="ffffff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94dc0"/>
                </a:solidFill>
                <a:latin typeface="Comic Sans MS Bold"/>
                <a:ea typeface="Comic Sans MS Bold"/>
              </a:rPr>
              <a:t>Evaluation</a:t>
            </a: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Measures the results of the activity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955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5.</a:t>
            </a:r>
            <a:r>
              <a:rPr b="0" lang="en-US" sz="3600" spc="-1" strike="noStrike">
                <a:solidFill>
                  <a:srgbClr val="ffffff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94dc0"/>
                </a:solidFill>
                <a:latin typeface="Comic Sans MS Bold"/>
                <a:ea typeface="Comic Sans MS Bold"/>
              </a:rPr>
              <a:t>Conclusion</a:t>
            </a: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ums up the activity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955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ncourages students to reflect on its process &amp; result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955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6.</a:t>
            </a:r>
            <a:r>
              <a:rPr b="0" lang="en-US" sz="3600" spc="-1" strike="noStrike">
                <a:solidFill>
                  <a:srgbClr val="ffffff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94dc0"/>
                </a:solidFill>
                <a:latin typeface="Comic Sans MS Bold"/>
                <a:ea typeface="Comic Sans MS Bold"/>
              </a:rPr>
              <a:t>Teacher</a:t>
            </a: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94dc0"/>
                </a:solidFill>
                <a:latin typeface="Comic Sans MS Bold"/>
                <a:ea typeface="Comic Sans MS Bold"/>
              </a:rPr>
              <a:t>Page</a:t>
            </a:r>
            <a:r>
              <a:rPr b="0" lang="en-US" sz="3600" spc="-1" strike="noStrike">
                <a:solidFill>
                  <a:srgbClr val="000000"/>
                </a:solidFill>
                <a:latin typeface="Comic Sans MS Bold"/>
                <a:ea typeface="Comic Sans MS Bold"/>
              </a:rPr>
              <a:t> </a:t>
            </a:r>
            <a:r>
              <a:rPr b="0" lang="en-US" sz="3600" spc="-1" strike="noStrike">
                <a:solidFill>
                  <a:srgbClr val="094dc0"/>
                </a:solidFill>
                <a:latin typeface="Comic Sans MS Bold"/>
                <a:ea typeface="Comic Sans MS Bold"/>
              </a:rPr>
              <a:t>(optional)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295560" indent="0">
              <a:lnSpc>
                <a:spcPct val="100000"/>
              </a:lnSpc>
              <a:spcBef>
                <a:spcPts val="3399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␣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tains helpful information for using WebQuest: standards, examples of student work, tip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